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69F0-ACF5-4247-BC93-BCC39698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E72-1C9A-488E-8355-B22B5DA4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B8B6-F92C-4F1F-9E61-731D407EA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EBE-DD42-4B95-A5D8-06942FE7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346C-2737-4055-A352-16A0C7A1B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B7B82-E44C-45B1-9CB4-674694DB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430B-CCD0-4E3A-8CB3-68800BCB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2D82-9D15-4F15-99CD-8BE77DE9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95BC-467C-4B2B-B264-D2E45B90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D349-FE7C-4FB8-939D-1804B5CA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0D0E-59F4-4401-9831-22C81DA9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2BA-2665-474A-8B68-36E9959A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6295-B676-4167-A71A-49BECEE8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DD51-0BD4-45B5-8089-74209D19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3776-2935-43E3-8563-90520432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F4F9-E657-495E-A514-D2D96B71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1CA5-13BF-4742-8354-30B74D8F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BA781-49A4-4D6B-95D3-6004560A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1BFC4-F770-4999-90EE-A45F2F290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FEFC0-AC74-4814-ACAF-0B7C6E33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13D5-2F28-469D-A31F-57CD7BB2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E24B-2CD7-406C-B020-8C073EB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B09-99DD-48AD-9853-462EF89C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3A616-B435-4F12-96BB-8275409B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A5523-EF71-4966-9EF4-2ED34F4BC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8F80-9ACA-4031-929F-60E7CAD5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1C5C-B72B-41EF-8D1C-5C412F4E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E440-A911-47E4-9579-E5C2D172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527BE-A32F-4022-9018-8D9C9110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4677C-6330-44F9-BEB1-A0DA53E2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D1CF-0B47-40D7-8164-359AB21F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B56-8A8E-4983-87E1-D60339C8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2DE-6B20-43F3-9123-BDB14E21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726-06F9-4F4E-B11A-6C902163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CDDF-1596-4BCD-AC19-89E4073A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ED98-89DB-41B8-909E-BCF35E64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E4A2-3954-459C-B377-2D09C09B8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2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9E1F-B3A7-43BC-B9FE-A0354865760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35F8-7FAC-4175-9EBA-C95ED43B174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0629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«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Миссионерская деятельность православной церкви в Забайкалье»</a:t>
            </a:r>
            <a:br>
              <a:rPr sz="38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24000" y="4652640"/>
            <a:ext cx="6119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полнила: Усольцева Людмил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уководитель: Бабинцева Н.С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г.Улан-Удэ 2009г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859280" y="5157360"/>
            <a:ext cx="396072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Территория Иркутской еп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Жёлтый- территория по указу 1727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Синий- террит., включённая в 1731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Красный- террит., включённая в 1824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Миссионеры столкнулись с немалыми трудностями на пути осуществления своей деятельности. Они заключались, с одной стороны, в огромных пространствах, большой удаленностью приходов, отсутствием дорог, грубости сибирского быта и нравов, распространением среди коренных народов шаманизма и ламаизма, с другой – отсутствием достаточного числа священно и церковнослужителей, в нехватке средств, что вело духовенство на злоупотребления, подрывавшие авторитет церкв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Отстраненность правительства от дел христианизации дала простор для расцвета творческой мысли миссионеров и многообразия форм миссионерской деятельности. Духовенство Забайкальской миссии занималось созданием школ и собиранием библиотек, исследованием нового края, его природы, географии, истории, быта, языка и верований коренных жителей. Нередко ему приходилось выступать в даже качестве врачей и агрономов. Были построены церкви в русских (или смешанных) селения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Главными направлениями в просветительской православной церкви было создание и укрепление системы духовного образования в Иркутской епархии, создание церковных школ для просвещения местного населения, содействие духовенства распространению знаний среди населения, перевод церковной литературы на языки сибирских народов и составление грамматик этих язы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28083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водя итог, следует подчеркнуть, что духовенство Иркутской епархии сыграло заметную роль в изучении восточной части Российской империи и народов, её населявших. Дневники, отчёты, труды свидетельствуют о исследовательских интересах лучших его представителей. И поныне их труды являются ценным источником сведений о регион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характеристика деятельности бурятских миссионеров не может быть однозначной. Подобно ламам, они раскрывали сущность шаманистского мировоззрения, вводили народ в мир более цивилизованный, приобщая к народным ценностям, содействовали общему развит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дует признать тот факт, что в условиях царизма, темноты и невежества, миссионеры несли в народ не просто другую веру и обрядность, но и ценности христианства и европейской культуры, способствовали развитию духовного мира и умственных способностей детей, взросл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5994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иссионеры Забайкалья н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Задача данной работ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ая задача работы заключалась в том, чтобы познакомить с малоизвестными страницами в деятельности православной церкви в развитии Восточной Сибири, дать представление о просветительской деятельности миссионеров в Забайкал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ктуальность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ная проблема актуальна в наше время, т.к. 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ке мы вновь обращаемся к религии. По всей стране идёт строительство новых храмов, восстанавливаются церкви. Все изменения в жизни общества заставляют обратиться к обществ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и написании работы использовались мет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авнительного анализа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анализ доступной для изучения литературы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нтеза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писана деятельность миссионеров в распространении христианства среди инородцев, занятия науко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общение изученного материала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 роли православной церкви в распространении христиа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04280"/>
            <a:ext cx="84358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айкальская православная миссия занимает особую страницу в истории распространения и развития православия в Забайкалье. Устройство Забайкальской православной миссии разделяют на три перио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3573000"/>
            <a:ext cx="793116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 становления (1681-18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 расцвета (1862-18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период- просветительская деятельность миссионеров (к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начал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X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ссионерская деятельность в Забайкалье началась после постановления Собора 1681 г. в Москве об основании Даурской миссии. Миссионерам были даны инструкции, приехав в Даурье, в Селенгинск и другие города и остроги «приглашать всяких иноверцев к истинной  православной, поучать со всяким тщанием и ревностью,  без всякого оскорбления, опасаясь, чтобы какими-нибудь словами не отдалить строптивых  иноземцев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чальный период христианизации имел добровольный, мирный характер. Поступая в монастырь на правах пашенных крестьян и вкладчиков, ново-крещенные поселялись  там, где им «полюбится» и могли работать на себя на монастырских полях, сколько «мочь их возьмет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Даурская миссия  смогла просуществовать на протяжении десятилетий, благодаря упорству монашеской братии, которые были в основном  выпускники духовных академий, семинарий и с уважением относились к другому верованию, несли христианское учение страждущ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250920" y="333360"/>
            <a:ext cx="403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оздание Иннокентием Кульчицким Иркутской епархии /1727 г./  укрепило православие, началась работа по подготовке кадров духовенства со знанием бурят-монгольского языка, подготовка священнослужителей бур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сновная задача миссионеров заключалась в распространении православия среди инородцев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4:16Z</dcterms:created>
  <dc:creator>www.PHILka.RU</dc:creator>
  <dc:description/>
  <dc:language>en-US</dc:language>
  <cp:lastModifiedBy>www.PHILka.RU</cp:lastModifiedBy>
  <dcterms:modified xsi:type="dcterms:W3CDTF">2010-01-24T10:01:39Z</dcterms:modified>
  <cp:revision>6</cp:revision>
  <dc:subject/>
  <dc:title>      «Миссионерская деятельность православной церкви в Забайкалье»  </dc:title>
</cp:coreProperties>
</file>